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05401-B66D-4F6D-A7CC-B568E30C452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74CD8-E12E-494A-A01F-0BFA144FE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D3644-394C-4D60-BB27-A1A2820AD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5D282-08C6-4E57-A66A-EA6D6444C6B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3916A-3F0E-41F1-AE5E-544AC5010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3C90E-0806-4AA2-A8A8-33ABA7F62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78A2E-C44B-4CBC-9895-CBA95A1CF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904F1-815E-4049-B7B0-C418B59FF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F0241-465E-45AA-B412-EEBFE8F4C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64DB8-9D22-448A-8765-56065502C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B8E74-F3BE-4859-B8E7-6E399C4E6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BDBFD-2883-4504-B1F5-191A3B7B1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B776B-DD62-4869-ACC3-B3913AF05F9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十六章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脓胸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诊断为双侧急性脓胸，入院后行双侧胸膜腔闭式引流，并给予抗炎、补液治疗，每天行胸膜腔冲洗。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后，胸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线检查显示胸膜腔积液消失，患者痊愈出院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的护理要点有哪些？②如何对该患者进行健康教育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急性疼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炎症刺激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气体交换障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脓液积聚压迫肺组织、胸廓及肺扩张受限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体温升高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胸膜腔感染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0840" indent="-2656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加强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缓解疼痛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呼吸功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吸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协助医师进行胸膜腔穿刺抽脓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降温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严密监测病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维持有效呼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训练呼吸功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缓解疼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膜腔闭式引流的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营养与活动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定期复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03280" y="2276640"/>
            <a:ext cx="6121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慢性脓胸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慢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慢性脓胸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hronic empyem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的病程长达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个月及以上，可由急性脓胸发展而来，也可因脓腔内异物存留或与胸膜腔毗邻的慢性病灶而形成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慢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可出现低热、乏力、消瘦、贫血、低蛋白血症等慢性消耗症状；有时可伴气促、咳嗽、咳脓痰等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廓内陷，呼吸运动减弱，肋间隙变窄，支气管及纵隔偏向患侧；听诊呼吸音减弱或消失；可有杵状指（趾）、脊柱侧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慢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检查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膜腔穿刺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慢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改善患者全身状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消灭脓腔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恢复肺功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脓胸、局限性脓胸、全脓胸、脓气胸的概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急性脓胸、慢性脓胸的相关因素、辅助检查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急性脓胸与慢性脓胸的临床表现、治疗原则、护理要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脓胸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慢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气体交换障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脓液积聚压迫肺组织、胸廓运动受限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营养失调（低于机体需要量）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营养摄入不足、代谢增加、消耗增加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胸膜腔内出血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慢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加强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控制反常呼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引流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防治胸膜腔内出血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慢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患者需采取正直姿势，坚持练习头部前后左右回转运动，练习上半身的前屈运动及左右弯曲运动，使之恢复到健康时的活动水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指导患者行呼吸功能训练和有氧运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急性脓胸主要继发于肺部感染；慢性脓胸可由急性脓胸发展而来，也可因脓腔内异物存留或与胸膜腔毗邻的慢性病灶而形成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表现为体温升高、呼吸急促、食欲减退、胸痛、乏力、呼吸运动减弱等。急性脓胸肋间隙饱满，叩诊呈浊音；慢性脓胸胸廓内陷，肋间隙变窄，支气管及纵隔偏向患侧，可有杵状指（趾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控制感染，改善全身情况，排出胸膜腔脓液，必要时手术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护理  加强营养，改善呼吸功能，做好胸膜腔闭式引流护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因结核性胸膜炎突发高热、气促、咳脓痰，在当地医院治疗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周未见好转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 38.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 9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 2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P 120/85mmH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疲乏无力，精神不振，右侧胸腔叩诊呈浊音，听诊呼吸音减弱、大量痰鸣音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检查：右侧胸膜腔大量积液，纵隔左移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右侧胸膜腔穿刺抽出脓性液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诊断为结核性脓胸，给予抗结核治疗，并抽取积液，行胸膜腔冲洗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请问：该患者目前主要的护理诊断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合作性问题是什么？如何改善患者的呼吸功能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该患者体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8.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存在“体温过高：与感染有关”；右侧胸膜腔大量积液，呼吸音减弱，存在“气体交换障碍：与脓液压迫肺组织有关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患者的呼吸功能：协助患者取半坐卧位，以利于患者呼吸；给患者吸氧，氧流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~4L/mi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；鼓励患者咳嗽、咳痰，痰液粘稠不易咳出时行雾化吸入，以促进痰液排出；协助医师进行胸膜腔穿刺抽脓和冲洗，以排出脓液，降低胸膜腔内的压力，促进呼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急性脓胸多为继发性感染，主要的原发病灶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肺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纵隔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脏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膈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肝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急性脓胸的临床表现不包括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高热、脉快、呼吸急促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胸闷、咳嗽、咳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患侧呼吸运动减弱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叩诊呈鼓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听诊呼吸音减弱或消失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慢性脓胸的病程一般长达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周及以上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周及以上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个月及以上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个月及以上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个月及以上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. A    2. D   3. E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03280" y="2276640"/>
            <a:ext cx="6121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急性脓胸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急性脓胸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cute empyem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多为继发性感染，主要的原发病灶是肺部，少数是胸内和纵隔内其他脏器或身体其他部位感染病灶。常见致病菌为金黄色葡萄球菌和革兰阴性杆菌；结核分枝杆菌和真菌少见。若为厌氧菌感染，则称为腐败性脓胸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急性脓胸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cute empyem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多为继发性感染，主要的原发病灶是肺部，少数是胸内和纵隔内其他脏器或身体其他部位感染病灶。常见致病菌为金黄色葡萄球菌和革兰阴性杆菌；结核分枝杆菌和真菌少见。若为厌氧菌感染，则称为腐败性脓胸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因高热、胸痛、呼吸困难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入院。入院前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，因饮酒后呕吐物误吸入肺内导致肺内感染，持续高热、寒战，静滴抗生素无效，并出现胸痛、呼吸困难、咳嗽、咳黄色脓臭痰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 39.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 1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 2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P 100/70mmH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神清合作，表情痛苦，呼吸运动减弱，肋间隙饱满，叩诊呈鼓音，听诊呼吸音减弱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：双侧胸膜腔大量积液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常规：白细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4.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en-US" sz="24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中性粒细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0.8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胸膜腔穿刺：抽出黄色脓液。脓液细菌培养为金黄色葡萄球菌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问题：如何对该患者进行护理评估？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有高热、脉快、呼吸急促、食欲减退、胸痛及全身乏力等不适，积脓较多者尚有胸闷、咳嗽、咳痰等症状，甚至发绀和休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患侧呼吸运动减弱，肋间隙饱满，叩诊呈浊音，听诊呼吸音减弱或消失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膜腔穿刺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控制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排尽胸膜腔积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全身支持疗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5-24T13:03:11Z</dcterms:modified>
  <cp:revision>87</cp:revision>
  <dc:subject/>
  <dc:title>内科护理学</dc:title>
</cp:coreProperties>
</file>